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A33B-3FEA-4053-A4BE-64F9EBAB1C1D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0000-7FE8-4B9D-B05E-850489574EA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5585-F36F-4338-A2DA-435FA66E9CBE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data should be p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 on raw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rivatives can also be preserved but should be linked to raw data with workflows and/or in meta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ill it be preser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chives are commonly used in your commun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ives last longer than lab/personal web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to see if institution has repository available to researc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re any organizations or societies that might house your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succession plans if the expected place for archiving goes out of exis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transformations/formats. Contact the data repository you will use early in the project to be sure you have data in correct format. This will save time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here is a person assigned responsibility for maintaining contact information for the archive. This is especially important if restrictions on data use require that they contact the data collectors before reu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BD8E-D331-4B33-A90D-DFA753A54DA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unsetmaunaloa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cript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8A1A-5B6B-45C9-A0B8-B29F496E106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unsetmaunaloa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cript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srl.noaa.gov/gmd/obop/mlo/pictures/sunsensor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E34E-8FBF-44DF-AF2C-47C04E32CE0F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ing DOI, that indicates the version of the Mauna Loa Data Product and how to obtain a copy of that produ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available at CDIAC so that interested users can discover the Mauna Loa CO2 record along with other related Earth science da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4D84-9787-4C36-AFA5-B7D61D1D6082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one example, a consortium that is developing a Data Management Planning Online Tool. The tool “walks” scientists through the process of developing a concise, but comprehensive data management plan that could enable good stewardship of data and meet requirements of sponsors and home institutions. Contains a number of resource documents including other example data management plans and other information on NSF’s requirements for a D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9AB9-6A01-4482-96A9-31AA188102F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A9C0-8CB2-45EB-81D1-06A398C22BF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643D-01BF-4D97-93B8-B4C2E681B5D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ning how you will handle the data life cycle ….practical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AB41-5A0D-4D44-97AB-93639D599610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MP is a formal document that outlines what you will do with your data during and after your research.  This ensures that your data will be safe now and in the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E29C-F548-41B8-8659-0D57B78F7AC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FEB2-2399-4B70-BDFE-7963B914F142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of January 2011 NSF is now requiring 2 page data management plan to be included in all submitted proposals. This is in addition to the 15 pages for the propos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G = award and administration guide; see nex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3824-7BE9-498C-A33E-DC9A0125D01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types of data that may be produced by a research study. Consider this list when describing data that will be produced by th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4948-EF21-4178-BED3-4383436AA7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tadata Content and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data provides important information about the data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reated the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content of the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cre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it geographical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develo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develo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Metadata records and captures critical information about a datas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Metadata includes descriptions of temporal and spatial details, instrumen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Metadata is the documentation and reporting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135C-077B-4100-ABD7-88D9DFB580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ligations for shar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scribe any requirements you might have for sharing as a result of your funding, your institution, your professional society, etc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ider any legal obligations for sharing data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heck with your institution. They often have information available for researchers regarding sharing obligations within and beyond the institut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tails of shar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w long will the data be available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n will that access be granted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o will have access to those data? How will they gain access?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ill the data collector/creator/PI have exclusive rights to data for a certain period of time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thical/privacy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- Aare data about humans? If so, address human subjects research protocol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ther example of ethical/privacy concerns include locations of sensitive habitats or organism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formed consent issu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w privacy will be protected along with participant confidentiality arrang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C110-3C86-4E70-A8A0-FE43076261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44EF-94CF-42BE-91E2-0AD0EF723A0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BFFD-43DD-4546-8AC9-2F31BB9AC46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10A8-A076-4232-9036-4FC43437B5D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639A-D473-4B1B-ACD9-6DE7E25E318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C42C-2BB6-444A-9222-A45DFE9B2B1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3315-C4ED-45ED-BFCB-445F358A363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0B04-D695-4E6D-A7D0-F199E5D0137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29C7-EDCA-446E-B4C7-FD7DF71CCAB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3DC6-FE91-4641-A6FA-B29D057F529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FB4A-C1FE-4A28-978B-03D9CD7BFF5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4D90-3461-4A2D-914E-355B2523E15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9825-E27A-4431-ABE1-8804E1E24C0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1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E336-BD36-41C8-B394-AEBF8A2B3890}" type="slidenum">
              <a:rPr b="0" lang="en-US" sz="1200" spc="-1" strike="noStrike">
                <a:solidFill>
                  <a:srgbClr val="898989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3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74" name="TextBox 5"/>
          <p:cNvSpPr/>
          <p:nvPr/>
        </p:nvSpPr>
        <p:spPr>
          <a:xfrm>
            <a:off x="122400" y="76320"/>
            <a:ext cx="342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Data Management 101 for Earth Scientists 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1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5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9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3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7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1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5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9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13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4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4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4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Data Management 101 for Earth Scientists</a:t>
            </a:r>
            <a:br>
              <a:rPr sz="2800"/>
            </a:br>
            <a:br>
              <a:rPr sz="2800"/>
            </a:br>
            <a:r>
              <a:rPr b="1" lang="en-US" sz="4800" spc="-1" strike="noStrike">
                <a:solidFill>
                  <a:srgbClr val="218595"/>
                </a:solidFill>
                <a:latin typeface="Helvetica Neue Light"/>
              </a:rPr>
              <a:t>Data Management Plans 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Cook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vironmental Sciences Divisio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ak Ridge National Laborator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1182" name="Picture 5" descr=""/>
          <p:cNvPicPr/>
          <p:nvPr/>
        </p:nvPicPr>
        <p:blipFill>
          <a:blip r:embed="rId1"/>
          <a:stretch/>
        </p:blipFill>
        <p:spPr>
          <a:xfrm>
            <a:off x="635040" y="790272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25" descr="DataONE_South America LOGO.tif"/>
          <p:cNvPicPr/>
          <p:nvPr/>
        </p:nvPicPr>
        <p:blipFill>
          <a:blip r:embed="rId3"/>
          <a:stretch/>
        </p:blipFill>
        <p:spPr>
          <a:xfrm>
            <a:off x="9186840" y="8194680"/>
            <a:ext cx="3411720" cy="81288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6" descr=""/>
          <p:cNvPicPr/>
          <p:nvPr/>
        </p:nvPicPr>
        <p:blipFill>
          <a:blip r:embed="rId4"/>
          <a:stretch/>
        </p:blipFill>
        <p:spPr>
          <a:xfrm>
            <a:off x="7248600" y="7896240"/>
            <a:ext cx="169236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650880" y="2249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1  What data will be preserv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2  Where will it be preserv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Most appropriate archive fo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mmunity standard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3  Data transformations/formats need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nsider archive polic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4   Who will be responsibl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ntact person for archiv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  <a:ea typeface="ＭＳ Ｐゴシック"/>
              </a:rPr>
              <a:t>4. Long-term Storage &amp;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22" name="Picture 4" descr=""/>
          <p:cNvPicPr/>
          <p:nvPr/>
        </p:nvPicPr>
        <p:blipFill>
          <a:blip r:embed="rId1"/>
          <a:stretch/>
        </p:blipFill>
        <p:spPr>
          <a:xfrm>
            <a:off x="10572840" y="4311720"/>
            <a:ext cx="1187280" cy="130788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6" descr=""/>
          <p:cNvPicPr/>
          <p:nvPr/>
        </p:nvPicPr>
        <p:blipFill>
          <a:blip r:embed="rId2"/>
          <a:stretch/>
        </p:blipFill>
        <p:spPr>
          <a:xfrm>
            <a:off x="10193400" y="6267600"/>
            <a:ext cx="1566720" cy="74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4" name="Picture 17" descr="lterlogo_blue"/>
          <p:cNvPicPr/>
          <p:nvPr/>
        </p:nvPicPr>
        <p:blipFill>
          <a:blip r:embed="rId3"/>
          <a:stretch/>
        </p:blipFill>
        <p:spPr>
          <a:xfrm>
            <a:off x="8480520" y="3503520"/>
            <a:ext cx="1027080" cy="120816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22" descr="NASA4.jpg"/>
          <p:cNvPicPr/>
          <p:nvPr/>
        </p:nvPicPr>
        <p:blipFill>
          <a:blip r:embed="rId4"/>
          <a:stretch/>
        </p:blipFill>
        <p:spPr>
          <a:xfrm>
            <a:off x="10155240" y="2711520"/>
            <a:ext cx="1241280" cy="126684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9" descr="USGS-Trans.tif"/>
          <p:cNvPicPr/>
          <p:nvPr/>
        </p:nvPicPr>
        <p:blipFill>
          <a:blip r:embed="rId5"/>
          <a:stretch/>
        </p:blipFill>
        <p:spPr>
          <a:xfrm>
            <a:off x="939960" y="7772400"/>
            <a:ext cx="1828800" cy="67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7" name="Picture 10" descr=""/>
          <p:cNvPicPr/>
          <p:nvPr/>
        </p:nvPicPr>
        <p:blipFill>
          <a:blip r:embed="rId6"/>
          <a:stretch/>
        </p:blipFill>
        <p:spPr>
          <a:xfrm>
            <a:off x="8745480" y="5391000"/>
            <a:ext cx="1473120" cy="457200"/>
          </a:xfrm>
          <a:prstGeom prst="rect">
            <a:avLst/>
          </a:prstGeom>
          <a:ln w="0">
            <a:noFill/>
          </a:ln>
        </p:spPr>
      </p:pic>
      <p:grpSp>
        <p:nvGrpSpPr>
          <p:cNvPr id="1228" name="Group 11"/>
          <p:cNvGrpSpPr/>
          <p:nvPr/>
        </p:nvGrpSpPr>
        <p:grpSpPr>
          <a:xfrm>
            <a:off x="3819600" y="7180200"/>
            <a:ext cx="1616040" cy="1658880"/>
            <a:chOff x="3819600" y="7180200"/>
            <a:chExt cx="1616040" cy="1658880"/>
          </a:xfrm>
        </p:grpSpPr>
        <p:pic>
          <p:nvPicPr>
            <p:cNvPr id="1229" name="Picture 10" descr="Screen shot 2010-07-24 at 19.21.45 .png"/>
            <p:cNvPicPr/>
            <p:nvPr/>
          </p:nvPicPr>
          <p:blipFill>
            <a:blip r:embed="rId7"/>
            <a:stretch/>
          </p:blipFill>
          <p:spPr>
            <a:xfrm>
              <a:off x="3819600" y="8109360"/>
              <a:ext cx="1491480" cy="729720"/>
            </a:xfrm>
            <a:prstGeom prst="rect">
              <a:avLst/>
            </a:prstGeom>
            <a:ln w="9360">
              <a:solidFill>
                <a:srgbClr val="177f8a"/>
              </a:solidFill>
              <a:miter/>
            </a:ln>
          </p:spPr>
        </p:pic>
        <p:pic>
          <p:nvPicPr>
            <p:cNvPr id="1230" name="Picture 13" descr=""/>
            <p:cNvPicPr/>
            <p:nvPr/>
          </p:nvPicPr>
          <p:blipFill>
            <a:blip r:embed="rId8"/>
            <a:stretch/>
          </p:blipFill>
          <p:spPr>
            <a:xfrm>
              <a:off x="3819600" y="7180200"/>
              <a:ext cx="1616040" cy="729720"/>
            </a:xfrm>
            <a:prstGeom prst="rect">
              <a:avLst/>
            </a:prstGeom>
            <a:ln w="9360">
              <a:solidFill>
                <a:srgbClr val="177f8a"/>
              </a:solidFill>
              <a:miter/>
            </a:ln>
          </p:spPr>
        </p:pic>
      </p:grpSp>
      <p:pic>
        <p:nvPicPr>
          <p:cNvPr id="1231" name="Picture 12" descr="DataONE_South America LOGO.tif"/>
          <p:cNvPicPr/>
          <p:nvPr/>
        </p:nvPicPr>
        <p:blipFill>
          <a:blip r:embed="rId9"/>
          <a:stretch/>
        </p:blipFill>
        <p:spPr>
          <a:xfrm>
            <a:off x="7656480" y="7924680"/>
            <a:ext cx="2656080" cy="635040"/>
          </a:xfrm>
          <a:prstGeom prst="rect">
            <a:avLst/>
          </a:prstGeom>
          <a:ln w="0">
            <a:noFill/>
          </a:ln>
        </p:spPr>
      </p:pic>
      <p:sp>
        <p:nvSpPr>
          <p:cNvPr id="1232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3001-3B9B-46FD-A8B1-B9899540684E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71320" y="53352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Helvetica Neue Light"/>
              </a:rPr>
              <a:t>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Mauna Loa CO</a:t>
            </a:r>
            <a:r>
              <a:rPr b="0" lang="en-US" sz="4400" spc="-1" strike="noStrike" baseline="-25000">
                <a:solidFill>
                  <a:srgbClr val="218595"/>
                </a:solidFill>
                <a:latin typeface="Helvetica Neue Light"/>
              </a:rPr>
              <a:t>2</a:t>
            </a: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 Recor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4" name="TextBox 4"/>
          <p:cNvSpPr/>
          <p:nvPr/>
        </p:nvSpPr>
        <p:spPr>
          <a:xfrm>
            <a:off x="635040" y="2438280"/>
            <a:ext cx="571500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Helvetica Neue"/>
              </a:rPr>
              <a:t>Example, based on the work of CD Keeling &amp; colleague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398520" indent="-39852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Helvetica Neue"/>
              </a:rPr>
              <a:t>Study the controls on the concentration of atmospheric CO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Helvetica Neu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20880" indent="-46368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Helvetica Neue"/>
                <a:ea typeface="ヒラギノ角ゴ ProN W3"/>
              </a:rPr>
              <a:t>high precision and accuracy measurements. 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35" name="Picture 7" descr=""/>
          <p:cNvPicPr/>
          <p:nvPr/>
        </p:nvPicPr>
        <p:blipFill>
          <a:blip r:embed="rId1"/>
          <a:stretch/>
        </p:blipFill>
        <p:spPr>
          <a:xfrm>
            <a:off x="7721640" y="2133720"/>
            <a:ext cx="4792680" cy="327636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9" descr=""/>
          <p:cNvPicPr/>
          <p:nvPr/>
        </p:nvPicPr>
        <p:blipFill>
          <a:blip r:embed="rId2"/>
          <a:stretch/>
        </p:blipFill>
        <p:spPr>
          <a:xfrm>
            <a:off x="482760" y="5867280"/>
            <a:ext cx="7010280" cy="2438640"/>
          </a:xfrm>
          <a:prstGeom prst="rect">
            <a:avLst/>
          </a:prstGeom>
          <a:ln w="0">
            <a:noFill/>
          </a:ln>
        </p:spPr>
      </p:pic>
      <p:sp>
        <p:nvSpPr>
          <p:cNvPr id="1237" name="Rectangle 11"/>
          <p:cNvSpPr/>
          <p:nvPr/>
        </p:nvSpPr>
        <p:spPr>
          <a:xfrm>
            <a:off x="0" y="9045720"/>
            <a:ext cx="1262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https://www.dataone.org/sites/all/documents/DMP_MaunaLoa_Formatted.pdf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38" name="Picture 12" descr="DataONE_South America LOGO.tif"/>
          <p:cNvPicPr/>
          <p:nvPr/>
        </p:nvPicPr>
        <p:blipFill>
          <a:blip r:embed="rId3"/>
          <a:stretch/>
        </p:blipFill>
        <p:spPr>
          <a:xfrm>
            <a:off x="254160" y="8610480"/>
            <a:ext cx="1912680" cy="45720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13" descr=""/>
          <p:cNvPicPr/>
          <p:nvPr/>
        </p:nvPicPr>
        <p:blipFill>
          <a:blip r:embed="rId4"/>
          <a:stretch/>
        </p:blipFill>
        <p:spPr>
          <a:xfrm>
            <a:off x="7873920" y="6324480"/>
            <a:ext cx="4527720" cy="157500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14"/>
          <p:cNvSpPr/>
          <p:nvPr/>
        </p:nvSpPr>
        <p:spPr>
          <a:xfrm>
            <a:off x="8026560" y="79246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Courtesy of NOAA/ESRL,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Photographs by Forrest Mims III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1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C568-52E4-4139-BA1F-B6D827315B2D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 txBox="1"/>
          <p:nvPr/>
        </p:nvSpPr>
        <p:spPr>
          <a:xfrm>
            <a:off x="571680" y="2323800"/>
            <a:ext cx="11874240" cy="48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2360" indent="-5223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Collected continuously at five towers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1" marL="915840" indent="-39348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a central tower and four towers located at compass quadrants. 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522360" indent="-5223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06060"/>
                </a:solidFill>
                <a:latin typeface="Helvetica Neue"/>
              </a:rPr>
              <a:t>Raw data files 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contain continuously measured CO</a:t>
            </a:r>
            <a:r>
              <a:rPr b="0" lang="en-US" sz="3100" spc="-1" strike="noStrike" baseline="-25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 concentrations, calibration standards, references standards, daily check standards, and blanks. 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1" marL="915840" indent="-39348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te conditions will also be noted and retained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522360" indent="-5223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06060"/>
                </a:solidFill>
                <a:latin typeface="Helvetica Neue"/>
              </a:rPr>
              <a:t>Final data product 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will consist of 5-minute, 15-minute, hourly, daily, and monthly average atmospheric concentration of CO</a:t>
            </a:r>
            <a:r>
              <a:rPr b="0" lang="en-US" sz="3100" spc="-1" strike="noStrike" baseline="-25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, in mole fraction in water-vapor-free air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marL="522360" indent="-5223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Data in comma-separated-values in plain ASCII format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marL="522360" indent="-522360"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1. Information About Data &amp; Data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44" name="Picture 4" descr=""/>
          <p:cNvPicPr/>
          <p:nvPr/>
        </p:nvPicPr>
        <p:blipFill>
          <a:blip r:embed="rId1"/>
          <a:stretch/>
        </p:blipFill>
        <p:spPr>
          <a:xfrm>
            <a:off x="7493040" y="7543800"/>
            <a:ext cx="4527360" cy="1574640"/>
          </a:xfrm>
          <a:prstGeom prst="rect">
            <a:avLst/>
          </a:prstGeom>
          <a:ln w="9360">
            <a:solidFill>
              <a:srgbClr val="000090"/>
            </a:solidFill>
            <a:miter/>
          </a:ln>
        </p:spPr>
      </p:pic>
      <p:sp>
        <p:nvSpPr>
          <p:cNvPr id="1245" name="TextBox 5"/>
          <p:cNvSpPr/>
          <p:nvPr/>
        </p:nvSpPr>
        <p:spPr>
          <a:xfrm>
            <a:off x="787320" y="914400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Courtesy of NOAA/ESRL,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Photographs by Forrest Mims III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819000" y="7467480"/>
            <a:ext cx="4845240" cy="1684440"/>
          </a:xfrm>
          <a:prstGeom prst="rect">
            <a:avLst/>
          </a:prstGeom>
          <a:ln w="9360">
            <a:solidFill>
              <a:srgbClr val="000090"/>
            </a:solidFill>
            <a:miter/>
          </a:ln>
        </p:spPr>
      </p:pic>
      <p:sp>
        <p:nvSpPr>
          <p:cNvPr id="1247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D64B-FD68-4557-9EE7-B6228618FC7F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 txBox="1"/>
          <p:nvPr/>
        </p:nvSpPr>
        <p:spPr>
          <a:xfrm>
            <a:off x="571680" y="2324160"/>
            <a:ext cx="73022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ntextual information about the data in a text based document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tandard metadata (e.g., ISO 19115) in an xml file. 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formats provide a full explanation of the data (text format) and ensure compatibility with international standards (xml format).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2. Metadata Content &amp;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50" name="Picture 4" descr="AA002733.png"/>
          <p:cNvPicPr/>
          <p:nvPr/>
        </p:nvPicPr>
        <p:blipFill>
          <a:blip r:embed="rId1"/>
          <a:stretch/>
        </p:blipFill>
        <p:spPr>
          <a:xfrm>
            <a:off x="9342360" y="3936960"/>
            <a:ext cx="2113200" cy="132084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5" descr="j0316779.jpg"/>
          <p:cNvPicPr/>
          <p:nvPr/>
        </p:nvPicPr>
        <p:blipFill>
          <a:blip r:embed="rId2"/>
          <a:stretch/>
        </p:blipFill>
        <p:spPr>
          <a:xfrm>
            <a:off x="9245520" y="5410080"/>
            <a:ext cx="2629080" cy="173052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8785-9F33-459A-9BC9-F6BD10F32AD7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 txBox="1"/>
          <p:nvPr/>
        </p:nvSpPr>
        <p:spPr>
          <a:xfrm>
            <a:off x="571320" y="2323800"/>
            <a:ext cx="11861640" cy="704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final data product released when the recalibration of standard gasses has been completed and the data have been prepared (~six months)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o period of exclusive use by the data collectors.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rs can access documentation and final aggregated CO</a:t>
            </a:r>
            <a:r>
              <a:rPr b="0" lang="en-US" sz="3400" spc="-1" strike="noStrike" baseline="-25000">
                <a:solidFill>
                  <a:srgbClr val="606060"/>
                </a:solidFill>
                <a:latin typeface="Helvetica Neue"/>
              </a:rPr>
              <a:t>2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files via the Scripps CO</a:t>
            </a:r>
            <a:r>
              <a:rPr b="0" lang="en-US" sz="3400" spc="-1" strike="noStrike" baseline="-25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Program website            (</a:t>
            </a:r>
            <a:r>
              <a:rPr b="0" lang="en-US" sz="3400" spc="-1" strike="noStrike" u="sng">
                <a:solidFill>
                  <a:srgbClr val="606060"/>
                </a:solidFill>
                <a:uFillTx/>
                <a:latin typeface="Helvetica Neue"/>
              </a:rPr>
              <a:t>http://scrippsco2.ucsd.edu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)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aw data will be maintained and made available on request at no char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3.  Policies for Access, Sharing, &amp; Reus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5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D3E8-4FBD-4509-A8B1-333EDA88E458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 txBox="1"/>
          <p:nvPr/>
        </p:nvSpPr>
        <p:spPr>
          <a:xfrm>
            <a:off x="571320" y="2323800"/>
            <a:ext cx="11861640" cy="742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inal data product will be available for use by the research and policy communities in perpetuity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aw supporting data will be available for use by researchers to confirm the quality of the Mauna Loa Record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Long-term stewardship and curation at the Carbon Dioxide Information and Analysis Center (CDIAC), Oak Ridge National Laboratory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tandardized metadata record will be added to the archive metadata database at CDIAC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product citation, including DOI: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846000" indent="-447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Keeling, CD, 2004.  Atmospheric CO2 Concentrations - Mauna Loa Observatory, Hawaii, 1958-2003.  Numeric Data Package.  Available on-line [http://cdiac.ornl.gov] Carbon Dioxide Information Analysis Center (CDIAC), Oak Ridge National Laboratory, Oak Ridge, TN, USA.  doi:  10.3334/CDIAC/atg.ndp001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  <a:ea typeface="ＭＳ Ｐゴシック"/>
              </a:rPr>
              <a:t>4. Long-term Storage &amp;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8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4011-7118-41B7-8BED-263E7C4084FB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Data Management Planning Tool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60" name="Picture 2" descr=""/>
          <p:cNvPicPr/>
          <p:nvPr/>
        </p:nvPicPr>
        <p:blipFill>
          <a:blip r:embed="rId1"/>
          <a:stretch/>
        </p:blipFill>
        <p:spPr>
          <a:xfrm>
            <a:off x="1925640" y="1952640"/>
            <a:ext cx="9323280" cy="69897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1261" name="Picture 5" descr="UVa-library.png"/>
          <p:cNvPicPr/>
          <p:nvPr/>
        </p:nvPicPr>
        <p:blipFill>
          <a:blip r:embed="rId2"/>
          <a:stretch/>
        </p:blipFill>
        <p:spPr>
          <a:xfrm>
            <a:off x="3975120" y="9361440"/>
            <a:ext cx="682560" cy="36684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6" descr="smithsonian_logo.gif"/>
          <p:cNvPicPr/>
          <p:nvPr/>
        </p:nvPicPr>
        <p:blipFill>
          <a:blip r:embed="rId3"/>
          <a:stretch/>
        </p:blipFill>
        <p:spPr>
          <a:xfrm>
            <a:off x="8771040" y="9398160"/>
            <a:ext cx="2468520" cy="303120"/>
          </a:xfrm>
          <a:prstGeom prst="rect">
            <a:avLst/>
          </a:prstGeom>
          <a:ln w="0">
            <a:noFill/>
          </a:ln>
        </p:spPr>
      </p:pic>
      <p:pic>
        <p:nvPicPr>
          <p:cNvPr id="1263" name="Picture 7" descr="uiuc.gif"/>
          <p:cNvPicPr/>
          <p:nvPr/>
        </p:nvPicPr>
        <p:blipFill>
          <a:blip r:embed="rId4"/>
          <a:stretch/>
        </p:blipFill>
        <p:spPr>
          <a:xfrm>
            <a:off x="6940440" y="9420120"/>
            <a:ext cx="1700280" cy="28116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5" descr=""/>
          <p:cNvPicPr/>
          <p:nvPr/>
        </p:nvPicPr>
        <p:blipFill>
          <a:blip r:embed="rId5"/>
          <a:stretch/>
        </p:blipFill>
        <p:spPr>
          <a:xfrm>
            <a:off x="558720" y="9361440"/>
            <a:ext cx="1206720" cy="26208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11379240" y="9415440"/>
            <a:ext cx="1101600" cy="26208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10" descr="ucsd_logo.png"/>
          <p:cNvPicPr/>
          <p:nvPr/>
        </p:nvPicPr>
        <p:blipFill>
          <a:blip r:embed="rId7"/>
          <a:stretch/>
        </p:blipFill>
        <p:spPr>
          <a:xfrm>
            <a:off x="5862600" y="9361440"/>
            <a:ext cx="976320" cy="32076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11" descr="ucla_logo.png"/>
          <p:cNvPicPr/>
          <p:nvPr/>
        </p:nvPicPr>
        <p:blipFill>
          <a:blip r:embed="rId8"/>
          <a:stretch/>
        </p:blipFill>
        <p:spPr>
          <a:xfrm>
            <a:off x="4789440" y="9398160"/>
            <a:ext cx="1014480" cy="263520"/>
          </a:xfrm>
          <a:prstGeom prst="rect">
            <a:avLst/>
          </a:prstGeom>
          <a:ln w="0">
            <a:noFill/>
          </a:ln>
        </p:spPr>
      </p:pic>
      <p:grpSp>
        <p:nvGrpSpPr>
          <p:cNvPr id="1268" name="Group 12"/>
          <p:cNvGrpSpPr/>
          <p:nvPr/>
        </p:nvGrpSpPr>
        <p:grpSpPr>
          <a:xfrm>
            <a:off x="1844640" y="9375840"/>
            <a:ext cx="1997280" cy="304560"/>
            <a:chOff x="1844640" y="9375840"/>
            <a:chExt cx="1997280" cy="304560"/>
          </a:xfrm>
        </p:grpSpPr>
        <p:pic>
          <p:nvPicPr>
            <p:cNvPr id="1269" name="Picture 2" descr=""/>
            <p:cNvPicPr/>
            <p:nvPr/>
          </p:nvPicPr>
          <p:blipFill>
            <a:blip r:embed="rId9"/>
            <a:stretch/>
          </p:blipFill>
          <p:spPr>
            <a:xfrm>
              <a:off x="2801160" y="9375840"/>
              <a:ext cx="104076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Picture 2" descr=""/>
            <p:cNvPicPr/>
            <p:nvPr/>
          </p:nvPicPr>
          <p:blipFill>
            <a:blip r:embed="rId10"/>
            <a:stretch/>
          </p:blipFill>
          <p:spPr>
            <a:xfrm>
              <a:off x="1844640" y="9375840"/>
              <a:ext cx="8812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1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3AD8-2297-4826-BEA5-E20209AE6FFE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MP Tool Out-of-the-Box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360000" y="2287440"/>
            <a:ext cx="11704680" cy="281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239760" indent="-239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06060"/>
                </a:solidFill>
                <a:latin typeface="Helvetica Neue"/>
              </a:rPr>
              <a:t>Open to the community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Helvetica Neue"/>
              </a:rPr>
              <a:t>Step-by-step ‘wizard’ for generating data management plan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General guidance for each section: help text and resources relevant to al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Resources  for 12 NSF Directorates.  NIH Resources coming soon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74" name="Content Placeholder 2"/>
          <p:cNvSpPr/>
          <p:nvPr/>
        </p:nvSpPr>
        <p:spPr>
          <a:xfrm>
            <a:off x="285840" y="4495680"/>
            <a:ext cx="3930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297000" indent="-297000">
              <a:lnSpc>
                <a:spcPct val="100000"/>
              </a:lnSpc>
              <a:spcBef>
                <a:spcPts val="1712"/>
              </a:spcBef>
              <a:buClr>
                <a:srgbClr val="7f7f7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Create, edit, re-use, 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share, save, generate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a plan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97000" indent="-297000">
              <a:lnSpc>
                <a:spcPct val="100000"/>
              </a:lnSpc>
              <a:spcBef>
                <a:spcPts val="1712"/>
              </a:spcBef>
              <a:buClr>
                <a:srgbClr val="7f7f7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Use templates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97000" indent="-297000">
              <a:lnSpc>
                <a:spcPct val="100000"/>
              </a:lnSpc>
              <a:spcBef>
                <a:spcPts val="1712"/>
              </a:spcBef>
              <a:buClr>
                <a:srgbClr val="7f7f7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Helvetica Neue"/>
              </a:rPr>
              <a:t>Connect users with your institution’s resources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97000" indent="-297000">
              <a:lnSpc>
                <a:spcPct val="100000"/>
              </a:lnSpc>
              <a:spcBef>
                <a:spcPts val="1712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75" name="Picture 2" descr=""/>
          <p:cNvPicPr/>
          <p:nvPr/>
        </p:nvPicPr>
        <p:blipFill>
          <a:blip r:embed="rId1"/>
          <a:stretch/>
        </p:blipFill>
        <p:spPr>
          <a:xfrm>
            <a:off x="4629240" y="4653000"/>
            <a:ext cx="8235720" cy="411012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77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  <a:ea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For a detailed questionnaire with most of the issues you may need to address in an NSF data management plan see: http://dmp.data.jhu.edu/sites/default/files/Questionnaire.doc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MIT Libraries have a fairly comprehensive site about data management and publishing in general at http://libraries.mit.edu/guides/subjects/data-management/index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The Digital Curation Center in the UK has a variety of information on data management plans at http://www.dcc.ac.uk/resources/data-management-pla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5EAD-C7BC-499B-B85E-CC5EBF4AEBD4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ighly Developed Barbarism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82" name="Picture 6" descr=""/>
          <p:cNvPicPr/>
          <p:nvPr/>
        </p:nvPicPr>
        <p:blipFill>
          <a:blip r:embed="rId1"/>
          <a:stretch/>
        </p:blipFill>
        <p:spPr>
          <a:xfrm>
            <a:off x="406440" y="2006640"/>
            <a:ext cx="11941200" cy="66038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8"/>
          <p:cNvSpPr/>
          <p:nvPr/>
        </p:nvSpPr>
        <p:spPr>
          <a:xfrm>
            <a:off x="939960" y="5715000"/>
            <a:ext cx="7619760" cy="6858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4" name="Straight Connector 10"/>
          <p:cNvSpPr/>
          <p:nvPr/>
        </p:nvSpPr>
        <p:spPr>
          <a:xfrm>
            <a:off x="8559720" y="5715000"/>
            <a:ext cx="4343400" cy="190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5" name="Straight Connector 12"/>
          <p:cNvSpPr/>
          <p:nvPr/>
        </p:nvSpPr>
        <p:spPr>
          <a:xfrm flipH="1">
            <a:off x="101160" y="5715000"/>
            <a:ext cx="838440" cy="190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6" name="TextBox 13"/>
          <p:cNvSpPr/>
          <p:nvPr/>
        </p:nvSpPr>
        <p:spPr>
          <a:xfrm>
            <a:off x="76320" y="7620120"/>
            <a:ext cx="12826800" cy="128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</a:rPr>
              <a:t>dismissed as decadents living in a state of highly developed barbarism, hoarding data     without order, hunting their own young and fighting pointless formal wars.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7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12FC-4C94-4694-A625-F4D80684DDD2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650880" y="2261880"/>
            <a:ext cx="117028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at is a data management plan (DMP)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y prepare a DMP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mponents of a DM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ample of an NSF DM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Data Management Planning Topic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063B-8DD7-45E0-9C4E-90C9B76F9972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ning for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190" name="Content Placeholder 8" descr=""/>
          <p:cNvPicPr/>
          <p:nvPr/>
        </p:nvPicPr>
        <p:blipFill>
          <a:blip r:embed="rId1"/>
          <a:stretch/>
        </p:blipFill>
        <p:spPr>
          <a:xfrm>
            <a:off x="828720" y="2286000"/>
            <a:ext cx="9790200" cy="7315200"/>
          </a:xfrm>
          <a:prstGeom prst="rect">
            <a:avLst/>
          </a:prstGeom>
          <a:ln w="0">
            <a:noFill/>
          </a:ln>
        </p:spPr>
      </p:pic>
      <p:sp>
        <p:nvSpPr>
          <p:cNvPr id="1191" name="TextBox 1"/>
          <p:cNvSpPr/>
          <p:nvPr/>
        </p:nvSpPr>
        <p:spPr>
          <a:xfrm>
            <a:off x="10159920" y="75438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Data Life Cycle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650880" y="2015640"/>
            <a:ext cx="11090160" cy="6107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6060"/>
                </a:solidFill>
                <a:latin typeface="Calibri"/>
              </a:rPr>
              <a:t>What is a DMP?</a:t>
            </a:r>
            <a:endParaRPr b="0" lang="en-US" sz="4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 document that describes what you will do with your data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during</a:t>
            </a: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 </a:t>
            </a: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nd</a:t>
            </a:r>
            <a:r>
              <a:rPr b="0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after </a:t>
            </a: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your research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orskhop describes how to                                                           create a DMP and practical                                         approaches for managing                                                        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“</a:t>
            </a: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A goal without a plan is just a wish.”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 Neue Light"/>
              </a:rPr>
              <a:t>Antoine de Saint-Exupery (1900 – 1944)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194" name="Picture 6" descr="DataONE 4.jpg"/>
          <p:cNvPicPr/>
          <p:nvPr/>
        </p:nvPicPr>
        <p:blipFill>
          <a:blip r:embed="rId1"/>
          <a:stretch/>
        </p:blipFill>
        <p:spPr>
          <a:xfrm>
            <a:off x="6985080" y="5113440"/>
            <a:ext cx="4784760" cy="3116160"/>
          </a:xfrm>
          <a:prstGeom prst="rect">
            <a:avLst/>
          </a:prstGeom>
          <a:ln w="0">
            <a:noFill/>
          </a:ln>
        </p:spPr>
      </p:pic>
      <p:sp>
        <p:nvSpPr>
          <p:cNvPr id="1195" name="Slide Number Placeholder 3"/>
          <p:cNvSpPr/>
          <p:nvPr/>
        </p:nvSpPr>
        <p:spPr>
          <a:xfrm>
            <a:off x="9970920" y="929628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FACA-B7DE-4171-B45A-F82B18B5FDB7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Value of a Data Management Pla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863280" y="2514240"/>
            <a:ext cx="1202364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tional funding agencies have data sharing polices and requireme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cientific journals  (Nature, Science, and PLoS) have sharing requirements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hared, common data may help researchers collaborate and accelerate discoveries  (NY Times, 2010)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For the researcher: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elps organize data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ultivate quality and efficienc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elp with sharing and preserving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8" name="AutoShape 2"/>
          <p:cNvSpPr/>
          <p:nvPr/>
        </p:nvSpPr>
        <p:spPr>
          <a:xfrm>
            <a:off x="111240" y="-1420920"/>
            <a:ext cx="3114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9" name="AutoShape 4"/>
          <p:cNvSpPr/>
          <p:nvPr/>
        </p:nvSpPr>
        <p:spPr>
          <a:xfrm>
            <a:off x="111240" y="-1420920"/>
            <a:ext cx="3114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0" name="TextBox 11"/>
          <p:cNvSpPr/>
          <p:nvPr/>
        </p:nvSpPr>
        <p:spPr>
          <a:xfrm>
            <a:off x="-24840" y="9406080"/>
            <a:ext cx="46436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anks to Jeffery Loo, Chemical Informatics Librarian, UCB 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1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869B-243F-414F-BBDF-5801EA3AD847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2" name="TextBox 5"/>
          <p:cNvSpPr/>
          <p:nvPr/>
        </p:nvSpPr>
        <p:spPr>
          <a:xfrm>
            <a:off x="122400" y="76320"/>
            <a:ext cx="342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Data Management 101 for Earth Scientists 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740880" y="2749320"/>
            <a:ext cx="117046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lans for data management and sharing of the products of research.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roposals must include a supplementary document of no more than two pages labeled </a:t>
            </a:r>
            <a:r>
              <a:rPr b="1" lang="ja-JP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“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ata Management Plan</a:t>
            </a:r>
            <a:r>
              <a:rPr b="1" lang="ja-JP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”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.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is supplement should describe how the proposal will conform to NSF policy on the dissemination and sharing of research results (in AAG), and may include: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e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ypes of data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, samples, physical collections, software, curriculum materials, and other materials to be produced in the course of the project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e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tandards to be used for data and metadata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ormat and content (where existing standards are absent or deemed inadequate, this should be documented along with any proposed solutions or remedies)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olicies for access and sharing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ncluding provisions for appropriate protection of privacy, confidentiality, security, intellectual property, or other rights or requirements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olicies and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rovisions for re-use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, re-distribution, and the production of derivatives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lans for archiving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ata, samples, and other research products, and for preservation of access to them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NSF DMP Requiremen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5" name="TextBox 4"/>
          <p:cNvSpPr/>
          <p:nvPr/>
        </p:nvSpPr>
        <p:spPr>
          <a:xfrm>
            <a:off x="482760" y="2305080"/>
            <a:ext cx="59878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From Grant Proposal Guidelines: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06" name="Picture 5" descr=""/>
          <p:cNvPicPr/>
          <p:nvPr/>
        </p:nvPicPr>
        <p:blipFill>
          <a:blip r:embed="rId1"/>
          <a:stretch/>
        </p:blipFill>
        <p:spPr>
          <a:xfrm>
            <a:off x="7591320" y="326880"/>
            <a:ext cx="1501920" cy="1501920"/>
          </a:xfrm>
          <a:prstGeom prst="rect">
            <a:avLst/>
          </a:prstGeom>
          <a:ln w="0">
            <a:noFill/>
          </a:ln>
        </p:spPr>
      </p:pic>
      <p:sp>
        <p:nvSpPr>
          <p:cNvPr id="1207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9BE8-F876-40A7-BF2B-3CD66DC47806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650880" y="2249280"/>
            <a:ext cx="117028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1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escription of data to be produc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perimental, Observational, Raw or derived,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hysical collections, Models, Images, etc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2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acquir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en?  Where?  Methods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3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process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oftware used, Algorithms, Workflow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4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ile forma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sv, tab-delimited, naming convention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5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Quality assurance &amp; quality contro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6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isting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f existing data are used, what are its origins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ill your data be combined with existing data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at is the relationship between your data and existing data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7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managed in short-term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Version control, Backing up, Security &amp; protection, 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o will be responsible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58360" y="969480"/>
            <a:ext cx="11704680" cy="101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1. Information About Data &amp; Data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10" name="Picture 4" descr="AA002733.png"/>
          <p:cNvPicPr/>
          <p:nvPr/>
        </p:nvPicPr>
        <p:blipFill>
          <a:blip r:embed="rId1"/>
          <a:stretch/>
        </p:blipFill>
        <p:spPr>
          <a:xfrm>
            <a:off x="9136080" y="2556000"/>
            <a:ext cx="3005280" cy="187776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5" descr="j0316779.jpg"/>
          <p:cNvPicPr/>
          <p:nvPr/>
        </p:nvPicPr>
        <p:blipFill>
          <a:blip r:embed="rId2"/>
          <a:stretch/>
        </p:blipFill>
        <p:spPr>
          <a:xfrm>
            <a:off x="9328320" y="4657680"/>
            <a:ext cx="2763720" cy="1819440"/>
          </a:xfrm>
          <a:prstGeom prst="rect">
            <a:avLst/>
          </a:prstGeom>
          <a:ln w="0">
            <a:noFill/>
          </a:ln>
        </p:spPr>
      </p:pic>
      <p:sp>
        <p:nvSpPr>
          <p:cNvPr id="1212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5A11-A112-4434-BE4E-5F6F44C53222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 txBox="1"/>
          <p:nvPr/>
        </p:nvSpPr>
        <p:spPr>
          <a:xfrm>
            <a:off x="650880" y="2420640"/>
            <a:ext cx="11106000" cy="718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Metadata is the documentation describing all aspects of the data (e.g., who, why, what, when, and where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1  What metadata are need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ny details that make data understandable and usabl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2  How metadata will be created and/or captu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Lab notebooks? GPS units?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uto-saved on instrument? Manually entered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3   What format will be used for the meta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tandards for community (EML, ISO 19115, etc.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Justification for format chose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2. Metadata Content &amp;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A2E3-76FE-4BC5-93EA-39D5F9124CC2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1  Obligations for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unding agency, institution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2  Details of data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long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en?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access can be gained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3  Ethical/privacy issues with data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4  Intellectual property &amp; copyright issu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nstitutional policie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unding agency policie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mbargos for political/commercial reason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5  Intended future uses/users fo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6  Ci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should data be cited when us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ersistent citation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662840" indent="-64944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50880" y="969480"/>
            <a:ext cx="11863440" cy="101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3. Policies for Access, Sharing, &amp; Reus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18" name="Picture 4" descr="j0289552.jpg"/>
          <p:cNvPicPr/>
          <p:nvPr/>
        </p:nvPicPr>
        <p:blipFill>
          <a:blip r:embed="rId1"/>
          <a:stretch/>
        </p:blipFill>
        <p:spPr>
          <a:xfrm>
            <a:off x="8929800" y="3249720"/>
            <a:ext cx="2838240" cy="4294080"/>
          </a:xfrm>
          <a:prstGeom prst="rect">
            <a:avLst/>
          </a:prstGeom>
          <a:ln w="0">
            <a:noFill/>
          </a:ln>
        </p:spPr>
      </p:pic>
      <p:sp>
        <p:nvSpPr>
          <p:cNvPr id="1219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C8B3-E349-422F-A627-C5970D8CC533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obert Cook</cp:lastModifiedBy>
  <dcterms:modified xsi:type="dcterms:W3CDTF">2011-12-06T17:27:47Z</dcterms:modified>
  <cp:revision>89</cp:revision>
  <dc:subject/>
  <dc:title>ESIP Federation 101</dc:title>
</cp:coreProperties>
</file>